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C0D4-6915-45EC-BB85-AA1AD34F4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F3DD-D1C2-43F7-9DF1-EE34BE73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67A2-D52C-4CD8-A099-6E8690919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127A-D547-4266-8729-9C0E51501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F321-F434-44CB-B036-0C2AC57C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140E-B809-4305-9288-5E1D2914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A5B1-BB8A-4A2A-8F33-DB68FF3C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C6C4-1219-47F0-A4F2-F8CDD854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882E-ABF4-45F1-B2DC-B0738CA0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F3D6-17A1-4AF9-B7DA-70A59FB2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9591-7790-4C42-8019-C4BDB788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7C35-82DA-47C2-9059-0E7E3CBC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9630-22F9-47CE-A9AC-F90A1F9D8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__ Clase 6nh (601)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11 de marzo del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43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les son los deportes populares en el mundo hispa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Quién es tu deportista  favorito/a?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or qué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808200"/>
            <a:ext cx="8763120" cy="57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XT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er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Los deportes en el mundo hispan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22-23, en voz al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23 (1-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B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23 (1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 un compañero, completa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C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2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p. 14-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457200" y="4343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4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th?id=I"/>
          <p:cNvPicPr/>
          <p:nvPr/>
        </p:nvPicPr>
        <p:blipFill>
          <a:blip r:embed="rId1"/>
          <a:stretch/>
        </p:blipFill>
        <p:spPr>
          <a:xfrm>
            <a:off x="0" y="-1440"/>
            <a:ext cx="8991720" cy="68007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béisbol es muy popular en México, Honduras, Nicaragua, Panamá, Venezuela, partes de Colombia y el Japón. También es el deporte MAS popular de Cuba, Puerto Rico y La Republica Dominic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odos estos países tienen algo en común.  En algún momento de su historia hubo una base naval americana o presencia de la militar americ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uando estos soldados tenían tiempo libre, ellos jugaban el béisbol y los habitantes de los países los miraban jugar. Fue así que aprendieron el deporte y en algunos países, como en el caribe y Panamá, el béisbol se convirtió en el deporte n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609480" y="25884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Arial"/>
              </a:rPr>
              <a:t>La geografía y el béis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182880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14:49:12Z</dcterms:created>
  <dc:creator>Helen Zumaeta</dc:creator>
  <dc:description/>
  <dc:language>en-US</dc:language>
  <cp:lastModifiedBy>Helen Zumaeta</cp:lastModifiedBy>
  <cp:lastPrinted>2013-02-13T23:06:33Z</cp:lastPrinted>
  <dcterms:modified xsi:type="dcterms:W3CDTF">2013-03-11T16:09:10Z</dcterms:modified>
  <cp:revision>14</cp:revision>
  <dc:subject/>
  <dc:title>Me llamo ___________ Clase 7IM La fecha es el 4 de febrero del 2011</dc:title>
</cp:coreProperties>
</file>